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1A2-B935-4A37-9990-D543A5A7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86CB-DB11-45D0-94E6-142D385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428C-3F15-46B9-9A74-274413AC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F2D8-AA2E-42FF-AA43-E87BADA93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66F8-7203-42D6-B8F2-5A9636406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C94-5235-496F-B2CD-EC6EC80E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E56F-774A-47DE-BB02-A1C359EE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ED47-F5CC-49C8-AC2E-FCC1E3F98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AD2A-C44C-4472-9C02-210FB57E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FA78-8E16-4B56-ABB0-56EBCFD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AF9-C79F-4218-9357-D45BD905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7CFA-E02A-4717-BDE7-FF196494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33F6-CBB9-4563-AD13-CA21CAE69CF6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9520" y="2363760"/>
            <a:ext cx="582912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2. La alimentación human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96640" y="3348000"/>
            <a:ext cx="4368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imentación y la nutrición. Los nutr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valor energético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necesidades energéticas del ser hum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diferentes 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ieta saludable y equilib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stornos relacionados con la al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nservación y manipulación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640" y="144360"/>
            <a:ext cx="6172200" cy="5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1. La alimentación y la nutrición. Los nutrientes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4. Diferentes 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404640" y="684360"/>
            <a:ext cx="61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do ser vivo requie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teria externa para crear su propia mater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nergía para realizar las funciones vit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3"/>
          <p:cNvSpPr/>
          <p:nvPr/>
        </p:nvSpPr>
        <p:spPr>
          <a:xfrm>
            <a:off x="404640" y="1400040"/>
            <a:ext cx="6156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conjunto de procesos que realizamos para obtener la materia y energía necesaria y eliminar los residuos generados por su utilización. La nutri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proceso involuntario e inconsc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btiene la materia y energía de los nutrien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4"/>
          <p:cNvSpPr/>
          <p:nvPr/>
        </p:nvSpPr>
        <p:spPr>
          <a:xfrm>
            <a:off x="404640" y="3059280"/>
            <a:ext cx="6156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iment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ingerir alimentos para obtener de ellos los nutrientes necesarios mediante la digestión. La alimentació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 un proceso voluntario y consc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porta casi todos los nutrientes necesarios, que están en los alimen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404640" y="2556000"/>
            <a:ext cx="615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Nutrient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moléculas que necesitamos del exterior para crear nuestra propia materia y poder realizar las funciones vit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6"/>
          <p:cNvSpPr/>
          <p:nvPr/>
        </p:nvSpPr>
        <p:spPr>
          <a:xfrm>
            <a:off x="404640" y="3995640"/>
            <a:ext cx="615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limento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producto que ingerimos para obtener de el nutrientes. Cada alimento está compuesto de diferentes nutrientes en diferentes proporc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189000" y="5710320"/>
            <a:ext cx="107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ipos de nutr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1197000" y="4788000"/>
            <a:ext cx="216000" cy="2303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1270080" y="4859280"/>
            <a:ext cx="1512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orgánico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origen no orgá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1268280" y="6299280"/>
            <a:ext cx="15843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rgánicos: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 fabrican seres v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2709720" y="4643280"/>
            <a:ext cx="73080" cy="935280"/>
          </a:xfrm>
          <a:custGeom>
            <a:avLst/>
            <a:gdLst>
              <a:gd name="textAreaLeft" fmla="*/ 46800 w 73080"/>
              <a:gd name="textAreaRight" fmla="*/ 73440 w 7308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2781360" y="5651640"/>
            <a:ext cx="71280" cy="1800000"/>
          </a:xfrm>
          <a:custGeom>
            <a:avLst/>
            <a:gdLst>
              <a:gd name="textAreaLeft" fmla="*/ 45720 w 71280"/>
              <a:gd name="textAreaRight" fmla="*/ 71640 w 712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2709720" y="46432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gua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medio donde ocurre la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709720" y="5203800"/>
            <a:ext cx="3888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Sales minerale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forman soluciones (agua + s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5"/>
          <p:cNvSpPr/>
          <p:nvPr/>
        </p:nvSpPr>
        <p:spPr>
          <a:xfrm>
            <a:off x="2781360" y="5651640"/>
            <a:ext cx="3384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Glúci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o hidratos de carbono (CH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)</a:t>
            </a:r>
            <a:r>
              <a:rPr b="0" lang="es-ES" sz="1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2781360" y="599436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Lípido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insolubles en agu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2781360" y="635472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Proteín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límeros de 20 aminoáci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8"/>
          <p:cNvSpPr/>
          <p:nvPr/>
        </p:nvSpPr>
        <p:spPr>
          <a:xfrm>
            <a:off x="2781360" y="6713640"/>
            <a:ext cx="33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c. nucleicos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polímeros de 4 nucleóti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2781360" y="707400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Vitaminas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lípidos o nucleótidos indispensab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0"/>
          <p:cNvSpPr/>
          <p:nvPr/>
        </p:nvSpPr>
        <p:spPr>
          <a:xfrm>
            <a:off x="2709720" y="4915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xígeno:</a:t>
            </a:r>
            <a:r>
              <a:rPr b="0" i="1" lang="es-ES" sz="1200" spc="-1" strike="noStrike">
                <a:solidFill>
                  <a:srgbClr val="000000"/>
                </a:solidFill>
                <a:latin typeface="Arial"/>
              </a:rPr>
              <a:t> quema materia orgán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2" descr="santillanaT2001"/>
          <p:cNvPicPr/>
          <p:nvPr/>
        </p:nvPicPr>
        <p:blipFill>
          <a:blip r:embed="rId1"/>
          <a:stretch/>
        </p:blipFill>
        <p:spPr>
          <a:xfrm>
            <a:off x="4581360" y="7451640"/>
            <a:ext cx="1800360" cy="1541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4" descr="santillanaT2002"/>
          <p:cNvPicPr/>
          <p:nvPr/>
        </p:nvPicPr>
        <p:blipFill>
          <a:blip r:embed="rId2"/>
          <a:stretch/>
        </p:blipFill>
        <p:spPr>
          <a:xfrm>
            <a:off x="2492280" y="7380360"/>
            <a:ext cx="1584360" cy="154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6" descr="santillanaT2003"/>
          <p:cNvPicPr/>
          <p:nvPr/>
        </p:nvPicPr>
        <p:blipFill>
          <a:blip r:embed="rId3"/>
          <a:stretch/>
        </p:blipFill>
        <p:spPr>
          <a:xfrm>
            <a:off x="404640" y="7451640"/>
            <a:ext cx="158436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6"/>
          <p:cNvSpPr/>
          <p:nvPr/>
        </p:nvSpPr>
        <p:spPr>
          <a:xfrm>
            <a:off x="384120" y="271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73200" y="246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920240" y="179280"/>
            <a:ext cx="29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utrientes de los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89000" y="684360"/>
          <a:ext cx="6480000" cy="3889080"/>
        </p:xfrm>
        <a:graphic>
          <a:graphicData uri="http://schemas.openxmlformats.org/drawingml/2006/table">
            <a:tbl>
              <a:tblPr/>
              <a:tblGrid>
                <a:gridCol w="863640"/>
                <a:gridCol w="1655640"/>
                <a:gridCol w="2376360"/>
                <a:gridCol w="1584360"/>
              </a:tblGrid>
              <a:tr h="35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ucosa, sacarosa, almidón, glucógeno  y celulo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: glucosa, sacarosa, almidón y celulos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: glucóge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a (corto plaz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(celulos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eite, grasa, cera, colesterol, esteroide e isopreno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: aceite, cera, isoprenoi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: grasa, cera, colesterol, estero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a (largo plaz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(membrana celula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ágeno, queratina, hemoglobina, …, y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i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gunos vegetales (legumbr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a y reguladora (encima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D, E y K (lípi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y familia de la B (nucleóti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es y bacterias, fres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 mi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ruros, fosfatos o carbonatos de K, Na o 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getales y leche (cal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a y plástica (calci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55"/>
          <p:cNvSpPr/>
          <p:nvPr/>
        </p:nvSpPr>
        <p:spPr>
          <a:xfrm rot="16200000">
            <a:off x="439560" y="17982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34"/>
          <p:cNvSpPr/>
          <p:nvPr/>
        </p:nvSpPr>
        <p:spPr>
          <a:xfrm>
            <a:off x="2424240" y="478152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pos de al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9"/>
          <p:cNvSpPr/>
          <p:nvPr/>
        </p:nvSpPr>
        <p:spPr>
          <a:xfrm>
            <a:off x="260280" y="507672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egún la proporción de glúcidos, lípidos, proteínas, vitaminas y miner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composición nutricional) que presente un alimento podemos clasificarlos 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60280" y="5724360"/>
          <a:ext cx="6337440" cy="2303640"/>
        </p:xfrm>
        <a:graphic>
          <a:graphicData uri="http://schemas.openxmlformats.org/drawingml/2006/table">
            <a:tbl>
              <a:tblPr/>
              <a:tblGrid>
                <a:gridCol w="2113200"/>
                <a:gridCol w="1631880"/>
                <a:gridCol w="259236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e may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j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o pl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é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o pl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 (azúcar y/o almidón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ería, pastelería, panes, pastas, patatas (bolsas), zumos y frut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llería, salsas, fritos, frutos se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s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s, pescados, huevos, leche y derivados (yogures, quesos, …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umbres, soja, frutos secos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dores (*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taminas y /o min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duras y hortalizas frescas, frutas del tiempo, setas, algas,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74"/>
          <p:cNvSpPr/>
          <p:nvPr/>
        </p:nvSpPr>
        <p:spPr>
          <a:xfrm>
            <a:off x="1204920" y="6083280"/>
            <a:ext cx="73080" cy="576360"/>
          </a:xfrm>
          <a:custGeom>
            <a:avLst/>
            <a:gdLst>
              <a:gd name="textAreaLeft" fmla="*/ 46800 w 73080"/>
              <a:gd name="textAreaRight" fmla="*/ 7344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0"/>
          <p:cNvSpPr/>
          <p:nvPr/>
        </p:nvSpPr>
        <p:spPr>
          <a:xfrm>
            <a:off x="1341360" y="6443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81"/>
          <p:cNvSpPr/>
          <p:nvPr/>
        </p:nvSpPr>
        <p:spPr>
          <a:xfrm>
            <a:off x="298800" y="8113680"/>
            <a:ext cx="45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*) contienen nutrientes que los animales no podemos sintetiz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524520" y="214200"/>
            <a:ext cx="469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2. El valor energético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33360" y="631800"/>
            <a:ext cx="621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nutrientes al oxidarse (quemarse) liberan energía (y residuos). La energía liberada se mide en calorías (cal) o julios (j), siendo la equivalencia 1cal= 4,18 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0040" y="11160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ada nutriente libera una cantidad determinada de energía y de residuos. En gener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15920" y="1403280"/>
          <a:ext cx="6172200" cy="1096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g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genera como residu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ú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íp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í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 k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H</a:t>
                      </a:r>
                      <a:r>
                        <a:rPr b="0" lang="es-ES" sz="1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y UR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Line 105"/>
          <p:cNvSpPr/>
          <p:nvPr/>
        </p:nvSpPr>
        <p:spPr>
          <a:xfrm>
            <a:off x="1555920" y="1835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6"/>
          <p:cNvSpPr/>
          <p:nvPr/>
        </p:nvSpPr>
        <p:spPr>
          <a:xfrm>
            <a:off x="1555920" y="2089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7"/>
          <p:cNvSpPr/>
          <p:nvPr/>
        </p:nvSpPr>
        <p:spPr>
          <a:xfrm>
            <a:off x="1555920" y="2340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8"/>
          <p:cNvSpPr/>
          <p:nvPr/>
        </p:nvSpPr>
        <p:spPr>
          <a:xfrm>
            <a:off x="3500280" y="1835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9"/>
          <p:cNvSpPr/>
          <p:nvPr/>
        </p:nvSpPr>
        <p:spPr>
          <a:xfrm>
            <a:off x="3500280" y="20955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1"/>
          <p:cNvSpPr/>
          <p:nvPr/>
        </p:nvSpPr>
        <p:spPr>
          <a:xfrm>
            <a:off x="536760" y="446256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3. Necesidades energéticas del ser h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12"/>
          <p:cNvSpPr/>
          <p:nvPr/>
        </p:nvSpPr>
        <p:spPr>
          <a:xfrm>
            <a:off x="387000" y="4869000"/>
            <a:ext cx="526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ntro de las necesidades energéticas del ser humano se diferencia en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3"/>
          <p:cNvSpPr/>
          <p:nvPr/>
        </p:nvSpPr>
        <p:spPr>
          <a:xfrm>
            <a:off x="404640" y="515772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TMB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 (tasa metabólica basal)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son las calorías consumidas por día, en reposo absoluto y a una temperatura constante de unos 25ºC, es decir, la energía mínima para sobreviv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valor depende de: edad, sexo, peso o talla y estado de salu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14"/>
          <p:cNvSpPr/>
          <p:nvPr/>
        </p:nvSpPr>
        <p:spPr>
          <a:xfrm>
            <a:off x="404640" y="5877000"/>
            <a:ext cx="6193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Arial"/>
              </a:rPr>
              <a:t>Tasa metabólica real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, que es la TMB más la energía requerida durante el día según el grado de actividad física y men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 valor depende de la actividades que se realicen durante el dí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8" descr="santillanaT2005"/>
          <p:cNvPicPr/>
          <p:nvPr/>
        </p:nvPicPr>
        <p:blipFill>
          <a:blip r:embed="rId1"/>
          <a:srcRect l="2613" t="0" r="2807" b="0"/>
          <a:stretch/>
        </p:blipFill>
        <p:spPr>
          <a:xfrm>
            <a:off x="115920" y="6576840"/>
            <a:ext cx="6624720" cy="2532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2" descr="santillanaT2004"/>
          <p:cNvPicPr/>
          <p:nvPr/>
        </p:nvPicPr>
        <p:blipFill>
          <a:blip r:embed="rId2"/>
          <a:srcRect l="0" t="13662" r="0" b="0"/>
          <a:stretch/>
        </p:blipFill>
        <p:spPr>
          <a:xfrm>
            <a:off x="333360" y="2556000"/>
            <a:ext cx="2562120" cy="1898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27"/>
          <p:cNvSpPr/>
          <p:nvPr/>
        </p:nvSpPr>
        <p:spPr>
          <a:xfrm>
            <a:off x="2780640" y="315756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28"/>
          <p:cNvSpPr/>
          <p:nvPr/>
        </p:nvSpPr>
        <p:spPr>
          <a:xfrm>
            <a:off x="2780640" y="356400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9"/>
          <p:cNvSpPr/>
          <p:nvPr/>
        </p:nvSpPr>
        <p:spPr>
          <a:xfrm>
            <a:off x="2780640" y="3360600"/>
            <a:ext cx="63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x3,7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30"/>
          <p:cNvSpPr/>
          <p:nvPr/>
        </p:nvSpPr>
        <p:spPr>
          <a:xfrm>
            <a:off x="3502080" y="2340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31"/>
          <p:cNvSpPr/>
          <p:nvPr/>
        </p:nvSpPr>
        <p:spPr>
          <a:xfrm>
            <a:off x="3357720" y="3276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2"/>
          <p:cNvSpPr/>
          <p:nvPr/>
        </p:nvSpPr>
        <p:spPr>
          <a:xfrm>
            <a:off x="3357720" y="34797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3"/>
          <p:cNvSpPr/>
          <p:nvPr/>
        </p:nvSpPr>
        <p:spPr>
          <a:xfrm>
            <a:off x="3357720" y="36831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4"/>
          <p:cNvSpPr/>
          <p:nvPr/>
        </p:nvSpPr>
        <p:spPr>
          <a:xfrm>
            <a:off x="4017600" y="315756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8,5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5"/>
          <p:cNvSpPr/>
          <p:nvPr/>
        </p:nvSpPr>
        <p:spPr>
          <a:xfrm>
            <a:off x="4017240" y="35640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11,84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36"/>
          <p:cNvSpPr/>
          <p:nvPr/>
        </p:nvSpPr>
        <p:spPr>
          <a:xfrm>
            <a:off x="4017600" y="3360600"/>
            <a:ext cx="64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35,1 kc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37"/>
          <p:cNvSpPr/>
          <p:nvPr/>
        </p:nvSpPr>
        <p:spPr>
          <a:xfrm>
            <a:off x="4724280" y="3203640"/>
            <a:ext cx="73080" cy="576360"/>
          </a:xfrm>
          <a:custGeom>
            <a:avLst/>
            <a:gdLst>
              <a:gd name="textAreaLeft" fmla="*/ 0 w 73080"/>
              <a:gd name="textAreaRight" fmla="*/ 26280 w 730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8"/>
          <p:cNvSpPr/>
          <p:nvPr/>
        </p:nvSpPr>
        <p:spPr>
          <a:xfrm>
            <a:off x="4847040" y="3368520"/>
            <a:ext cx="143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65,44 kcal/100 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504720" y="395280"/>
            <a:ext cx="44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5. Una dieta saludable y equilib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68000" y="4788000"/>
            <a:ext cx="605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6. Los trastornos relacionados con la ali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457200" y="776160"/>
            <a:ext cx="592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et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alimentos que ingerimos a lo largo de un día. Ha de 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ompleta: ha de incluir todo tipo de nutriente (glúcido, lípido, proteína, sales y vitami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Variada: debe incluir diferentes fuentes (alimen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quilibrada: los nutrientes deben tener la proporción adecuada a las necesidad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457200" y="2266920"/>
            <a:ext cx="29718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ieta mediterráne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dieta tradicional del entorno del mediterráneo que se caracteriza por inclui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egumbres y pescados como fuente de proteín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eite de oliva y frutos secos como fuente de lípid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rutas y verduras como fuente de glúcidos, vitaminas y minera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76280" y="5254560"/>
            <a:ext cx="606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i no hay una dieta equilibrada se producen trastornos alimentarios. Los más destacado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57200" y="5830920"/>
            <a:ext cx="61405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nutrición: falta de nutrientes en dieta. Puede 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otal: dieta insuficiente en todo tipo de nutri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cial: carencia de ciertos nutrientes, generando enfermedades carenciales (avitaminosis, bocio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besidad: ingesta excesiva de nutrientes, sobretodo glúcidos y lípidos, asociados a una vida sedentaria. Genera exceso de grasa corpor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orexia nerviosa: trastorno de la personalidad, con percepción distorsionada de la realidad, que se traduce en una obsesión por el “exceso” de peso y el rechazo a la comi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ulimia: trastorno de la personalidad que se traduce en la preocupación excesiva por la figura corporal, con fases de ingesta compulsiva seguidas de fases de arrepentimiento (vómitos auto inflingido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santillanaT2 alimentos005"/>
          <p:cNvPicPr/>
          <p:nvPr/>
        </p:nvPicPr>
        <p:blipFill>
          <a:blip r:embed="rId1"/>
          <a:stretch/>
        </p:blipFill>
        <p:spPr>
          <a:xfrm>
            <a:off x="3502080" y="2340000"/>
            <a:ext cx="1439640" cy="744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santillanaT2 alimentos008"/>
          <p:cNvPicPr/>
          <p:nvPr/>
        </p:nvPicPr>
        <p:blipFill>
          <a:blip r:embed="rId2"/>
          <a:stretch/>
        </p:blipFill>
        <p:spPr>
          <a:xfrm>
            <a:off x="5157720" y="1979640"/>
            <a:ext cx="1440000" cy="1292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santillanaT2 alimentos006"/>
          <p:cNvPicPr/>
          <p:nvPr/>
        </p:nvPicPr>
        <p:blipFill>
          <a:blip r:embed="rId3"/>
          <a:stretch/>
        </p:blipFill>
        <p:spPr>
          <a:xfrm>
            <a:off x="4581360" y="2895480"/>
            <a:ext cx="965520" cy="1028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8" descr="santillanaT2 alimentos007"/>
          <p:cNvPicPr/>
          <p:nvPr/>
        </p:nvPicPr>
        <p:blipFill>
          <a:blip r:embed="rId4"/>
          <a:stretch/>
        </p:blipFill>
        <p:spPr>
          <a:xfrm>
            <a:off x="5445000" y="3492360"/>
            <a:ext cx="1152720" cy="113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santillanaT2 alimentos009"/>
          <p:cNvPicPr/>
          <p:nvPr/>
        </p:nvPicPr>
        <p:blipFill>
          <a:blip r:embed="rId5"/>
          <a:stretch/>
        </p:blipFill>
        <p:spPr>
          <a:xfrm>
            <a:off x="3726000" y="3708360"/>
            <a:ext cx="1574640" cy="924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4" descr="aceituna"/>
          <p:cNvPicPr/>
          <p:nvPr/>
        </p:nvPicPr>
        <p:blipFill>
          <a:blip r:embed="rId6"/>
          <a:stretch/>
        </p:blipFill>
        <p:spPr>
          <a:xfrm>
            <a:off x="2924280" y="2962440"/>
            <a:ext cx="107928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397440" y="324000"/>
            <a:ext cx="621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7. La conservación y manipulación de los al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57200" y="776160"/>
            <a:ext cx="6211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Los alimentos se deterioran, perdiendo sus cualidades organolépticas, p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Oxidarse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el oxígeno oxida los alimentos cambiando las características del alimento (color, sabor, olor, textura, …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Crecimiento de microorganism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muchos microorganismos crecen en el alimento, pudiendo ser algunos tóxicos (botulismo) y/o infecciosos (salmonela, coler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57200" y="2193840"/>
            <a:ext cx="6211800" cy="35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ara evitarlo se desarrollan técnicas de conservación de los alimentos,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imin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l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 reducción de sus efectos mediante antioxidantes: CO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vacío, cítricos, aceit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iminació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o reducción al máximo de poblaciones de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microorganism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media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río: reduce o para el crecimiento (de refrigerar a ultra congel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alor: reduce o elimina las poblaciones (cocer, pasteurizar, esteriliz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Deshidratar: impide el crecimiento (de secado a liofiliza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7632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ditivos: sustancias que frenan o bloquean el crecimiento com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aturar con: azúcar, sal, aceite, vinagre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r o aromatizar con hiervas (pimienta, romero, ajo, 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600120" indent="-76320">
              <a:lnSpc>
                <a:spcPct val="100000"/>
              </a:lnSpc>
              <a:buClr>
                <a:srgbClr val="000000"/>
              </a:buClr>
              <a:buFont typeface="Arial"/>
              <a:buChar char="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Productos químicos sintétic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otras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de los alimentos, mediante: colorantes, estabilizantes, espesantes, gelificantes, edulcorantes, potenciadores de sabor,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santillanaT2 alimentos010"/>
          <p:cNvPicPr/>
          <p:nvPr/>
        </p:nvPicPr>
        <p:blipFill>
          <a:blip r:embed="rId1"/>
          <a:srcRect l="2791" t="0" r="3135" b="0"/>
          <a:stretch/>
        </p:blipFill>
        <p:spPr>
          <a:xfrm>
            <a:off x="187200" y="5724360"/>
            <a:ext cx="6697800" cy="2340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312840" y="8055000"/>
            <a:ext cx="6284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razabilidad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quellos procedimientos preestablecidos y autosuficientes que permiten conocer el histórico, la ubicación y la trayectoria de un producto o lote de productos a lo largo de la cadena de suministros en un momento dado, a través de unas herramientas determinad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5:31:03Z</dcterms:created>
  <dc:creator>Fernando Barajas</dc:creator>
  <dc:description/>
  <dc:language>en-US</dc:language>
  <cp:lastModifiedBy>Admin</cp:lastModifiedBy>
  <dcterms:modified xsi:type="dcterms:W3CDTF">2012-11-07T22:10:49Z</dcterms:modified>
  <cp:revision>35</cp:revision>
  <dc:subject/>
  <dc:title>1. La organización del cuerpo humano</dc:title>
</cp:coreProperties>
</file>